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2841-EE01-4AD6-8F5E-205FBE9A5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BD78-DAE5-4178-B178-25B0D4677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uela Calab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4FFC-DA4C-46A1-8B4E-5CA113054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0570-A000-411F-B08D-7E70C4C3D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51D0-3495-4944-A41B-44E830B29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FD64-9770-444D-8A3E-3266DD628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8CA3-B4C9-46B7-83C5-1B5300BBF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FDB8-EE0D-427A-8C59-8C6A0A38A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BED5-B191-4785-BA88-F4CB04F53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62E9-9858-4E34-8366-28933978A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C421-6F58-4E71-A4C9-36382F661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806B-5D1C-44FE-91C5-43A50CD7F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AA28-3EC4-4DCC-8DFD-4FA408C12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54CC-3851-4147-BE0B-285EA4A48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C6E7-053E-4E7F-84EE-BA6871277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05A-F824-4D91-B751-62A050AC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0130-E03F-4A11-A320-13298D23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342-FC8D-47F7-9D8A-1ADD9E72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54A-0B9E-42B7-8FB6-39FB26EF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E6EB-10D6-4951-9B21-CF6FA4BD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AC8-FB35-4C1A-B0C3-4DC3A32F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62F-4C95-4DC9-AEF7-E1EDEB8D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2CA-15F9-4B1D-9329-1D1D7514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1B31-9A8A-4FE2-8132-CF1DFB85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9589-93D4-41AF-9086-867352D5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06C-DA97-42F7-8FC0-AA77F9F2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126-FCCB-420A-B48A-ADE4C32D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CBE4-F03C-4886-8A4D-B68569675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dleader21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1981080" y="3049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novation in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1676520" y="6060960"/>
            <a:ext cx="60958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ll the Elements Fit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 Koufman-Frederick, Watertown Public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5838840" cy="4245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2" name="Text Box 14"/>
          <p:cNvSpPr/>
          <p:nvPr/>
        </p:nvSpPr>
        <p:spPr>
          <a:xfrm>
            <a:off x="7620120" y="2057400"/>
            <a:ext cx="129528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cambi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Escuela Calab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tevideo, Uruguay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ership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6"/>
          <p:cNvSpPr/>
          <p:nvPr/>
        </p:nvSpPr>
        <p:spPr>
          <a:xfrm>
            <a:off x="685800" y="1752480"/>
            <a:ext cx="8155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what we want in our learning environ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aborate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ve a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e a T-I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ach a T-I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 with a Pre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1x1Access"/>
          <p:cNvPicPr/>
          <p:nvPr/>
        </p:nvPicPr>
        <p:blipFill>
          <a:blip r:embed="rId2"/>
          <a:stretch/>
        </p:blipFill>
        <p:spPr>
          <a:xfrm>
            <a:off x="4876920" y="2514600"/>
            <a:ext cx="3886200" cy="2558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1"/>
          <p:cNvSpPr/>
          <p:nvPr/>
        </p:nvSpPr>
        <p:spPr>
          <a:xfrm>
            <a:off x="1676520" y="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ges of Successful Imple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523880" y="1752480"/>
            <a:ext cx="5943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Implem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Leader2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http://www.edleader21.com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st Century Skills: Rethinking How Students Lea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go.solution-tree.com/21stcenturyskill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Powered by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ed.gov/technology/netp-20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teracy21: Learning in a Changing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s://prezi.com/secure/deb482089982c79d2f3d2296e64f99ecd1e6f776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1 Mile Guide Self-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p21.org/milegui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ges of Successful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fpg.unc.edu/~nirn/implementation/06/06_stagesimple.c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Horizon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p.nmc.org/horizon2010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mast_09"/>
          <p:cNvPicPr/>
          <p:nvPr/>
        </p:nvPicPr>
        <p:blipFill>
          <a:blip r:embed="rId2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1676520" y="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400800" cy="4800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457200" y="1131840"/>
            <a:ext cx="8381880" cy="5850000"/>
            <a:chOff x="457200" y="1131840"/>
            <a:chExt cx="8381880" cy="5850000"/>
          </a:xfrm>
        </p:grpSpPr>
        <p:sp>
          <p:nvSpPr>
            <p:cNvPr id="54" name="Text Box 3"/>
            <p:cNvSpPr/>
            <p:nvPr/>
          </p:nvSpPr>
          <p:spPr>
            <a:xfrm>
              <a:off x="1737720" y="6374520"/>
              <a:ext cx="1629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ahoma"/>
                </a:rPr>
                <a:t>Stud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4"/>
            <p:cNvSpPr/>
            <p:nvPr/>
          </p:nvSpPr>
          <p:spPr>
            <a:xfrm>
              <a:off x="4065840" y="6374520"/>
              <a:ext cx="1861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ahoma"/>
                </a:rPr>
                <a:t>Faculty/Sta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6743520" y="6374520"/>
              <a:ext cx="1629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ahoma"/>
                </a:rPr>
                <a:t>Commun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6"/>
            <p:cNvSpPr/>
            <p:nvPr/>
          </p:nvSpPr>
          <p:spPr>
            <a:xfrm>
              <a:off x="573480" y="1537560"/>
              <a:ext cx="8265600" cy="463932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7"/>
            <p:cNvSpPr/>
            <p:nvPr/>
          </p:nvSpPr>
          <p:spPr>
            <a:xfrm>
              <a:off x="3949560" y="2426040"/>
              <a:ext cx="1513440" cy="2959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00"/>
                  </a:solidFill>
                  <a:latin typeface="Tahoma"/>
                </a:rPr>
                <a:t>Assess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"/>
            <p:cNvSpPr/>
            <p:nvPr/>
          </p:nvSpPr>
          <p:spPr>
            <a:xfrm>
              <a:off x="3600360" y="2820960"/>
              <a:ext cx="2211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9"/>
            <p:cNvSpPr/>
            <p:nvPr/>
          </p:nvSpPr>
          <p:spPr>
            <a:xfrm>
              <a:off x="2901600" y="3610800"/>
              <a:ext cx="3609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>
              <a:off x="2319840" y="4301640"/>
              <a:ext cx="4772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1"/>
            <p:cNvSpPr/>
            <p:nvPr/>
          </p:nvSpPr>
          <p:spPr>
            <a:xfrm>
              <a:off x="1737720" y="4893840"/>
              <a:ext cx="59371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2"/>
            <p:cNvSpPr/>
            <p:nvPr/>
          </p:nvSpPr>
          <p:spPr>
            <a:xfrm>
              <a:off x="1271880" y="5486040"/>
              <a:ext cx="68684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3"/>
            <p:cNvSpPr/>
            <p:nvPr/>
          </p:nvSpPr>
          <p:spPr>
            <a:xfrm>
              <a:off x="457200" y="1143000"/>
              <a:ext cx="3375720" cy="69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Tahoma"/>
                </a:rPr>
                <a:t>Teaching &amp; Learn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Tahoma"/>
                </a:rPr>
                <a:t>Technology Hierarch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2436120" y="4400280"/>
              <a:ext cx="4540320" cy="2959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ahoma"/>
                </a:rPr>
                <a:t>Leadership &amp; Administrative Sup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5"/>
            <p:cNvSpPr/>
            <p:nvPr/>
          </p:nvSpPr>
          <p:spPr>
            <a:xfrm>
              <a:off x="2319840" y="5683680"/>
              <a:ext cx="5122080" cy="394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ahoma"/>
                </a:rPr>
                <a:t>Network Infrastructure &amp; Hard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2319840" y="4992840"/>
              <a:ext cx="4889160" cy="394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ahoma"/>
                </a:rPr>
                <a:t>Technical Services &amp; Data 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7"/>
            <p:cNvSpPr/>
            <p:nvPr/>
          </p:nvSpPr>
          <p:spPr>
            <a:xfrm>
              <a:off x="3716640" y="3709440"/>
              <a:ext cx="2328120" cy="493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00"/>
                  </a:solidFill>
                  <a:latin typeface="Tahoma"/>
                </a:rPr>
                <a:t>Communicatio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00"/>
                  </a:solidFill>
                  <a:latin typeface="Tahoma"/>
                </a:rPr>
                <a:t>&amp; Collabor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8"/>
            <p:cNvSpPr/>
            <p:nvPr/>
          </p:nvSpPr>
          <p:spPr>
            <a:xfrm>
              <a:off x="3949560" y="2919600"/>
              <a:ext cx="1629720" cy="592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00"/>
                  </a:solidFill>
                  <a:latin typeface="Tahoma"/>
                </a:rPr>
                <a:t>Curriculum Applic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19"/>
            <p:cNvSpPr/>
            <p:nvPr/>
          </p:nvSpPr>
          <p:spPr>
            <a:xfrm rot="9232800">
              <a:off x="1270800" y="6275520"/>
              <a:ext cx="466200" cy="636120"/>
            </a:xfrm>
            <a:custGeom>
              <a:avLst/>
              <a:gdLst>
                <a:gd name="textAreaLeft" fmla="*/ 62280 w 466200"/>
                <a:gd name="textAreaRight" fmla="*/ 403920 w 466200"/>
                <a:gd name="textAreaTop" fmla="*/ 105840 h 636120"/>
                <a:gd name="textAreaBottom" fmla="*/ 436320 h 63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86" stAng="-5400000" swAng="5400000"/>
                  <a:lnTo>
                    <a:pt x="21600" y="11226"/>
                  </a:lnTo>
                  <a:arcTo wR="21600" hR="7186" stAng="0" swAng="2595372"/>
                  <a:lnTo>
                    <a:pt x="7200" y="21189"/>
                  </a:lnTo>
                  <a:lnTo>
                    <a:pt x="0" y="16391"/>
                  </a:lnTo>
                  <a:lnTo>
                    <a:pt x="7200" y="10771"/>
                  </a:lnTo>
                  <a:lnTo>
                    <a:pt x="7200" y="13960"/>
                  </a:lnTo>
                  <a:arcTo wR="21600" hR="7186" stAng="2595372" swAng="-2261424"/>
                  <a:lnTo>
                    <a:pt x="20729" y="9206"/>
                  </a:lnTo>
                  <a:arcTo wR="21600" hR="7186" stAng="-333949" swAng="-5066051"/>
                  <a:close/>
                </a:path>
                <a:path fill="darkenLess" w="21600" h="21600">
                  <a:moveTo>
                    <a:pt x="0" y="0"/>
                  </a:moveTo>
                  <a:arcTo wR="21600" hR="7186" stAng="-5400000" swAng="5400000"/>
                  <a:lnTo>
                    <a:pt x="21600" y="11226"/>
                  </a:lnTo>
                  <a:arcTo wR="21600" hR="7186" stAng="0" swAng="-333949"/>
                  <a:lnTo>
                    <a:pt x="20729" y="9206"/>
                  </a:lnTo>
                  <a:arcTo wR="21600" hR="7186" stAng="-333949" swAng="-5066051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20"/>
            <p:cNvSpPr/>
            <p:nvPr/>
          </p:nvSpPr>
          <p:spPr>
            <a:xfrm rot="9232800">
              <a:off x="3599280" y="6275520"/>
              <a:ext cx="466200" cy="636120"/>
            </a:xfrm>
            <a:custGeom>
              <a:avLst/>
              <a:gdLst>
                <a:gd name="textAreaLeft" fmla="*/ 62280 w 466200"/>
                <a:gd name="textAreaRight" fmla="*/ 403920 w 466200"/>
                <a:gd name="textAreaTop" fmla="*/ 105840 h 636120"/>
                <a:gd name="textAreaBottom" fmla="*/ 436320 h 63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86" stAng="-5400000" swAng="5400000"/>
                  <a:lnTo>
                    <a:pt x="21600" y="11226"/>
                  </a:lnTo>
                  <a:arcTo wR="21600" hR="7186" stAng="0" swAng="2595372"/>
                  <a:lnTo>
                    <a:pt x="7200" y="21189"/>
                  </a:lnTo>
                  <a:lnTo>
                    <a:pt x="0" y="16391"/>
                  </a:lnTo>
                  <a:lnTo>
                    <a:pt x="7200" y="10771"/>
                  </a:lnTo>
                  <a:lnTo>
                    <a:pt x="7200" y="13960"/>
                  </a:lnTo>
                  <a:arcTo wR="21600" hR="7186" stAng="2595372" swAng="-2261424"/>
                  <a:lnTo>
                    <a:pt x="20729" y="9206"/>
                  </a:lnTo>
                  <a:arcTo wR="21600" hR="7186" stAng="-333949" swAng="-5066051"/>
                  <a:close/>
                </a:path>
                <a:path fill="darkenLess" w="21600" h="21600">
                  <a:moveTo>
                    <a:pt x="0" y="0"/>
                  </a:moveTo>
                  <a:arcTo wR="21600" hR="7186" stAng="-5400000" swAng="5400000"/>
                  <a:lnTo>
                    <a:pt x="21600" y="11226"/>
                  </a:lnTo>
                  <a:arcTo wR="21600" hR="7186" stAng="0" swAng="-333949"/>
                  <a:lnTo>
                    <a:pt x="20729" y="9206"/>
                  </a:lnTo>
                  <a:arcTo wR="21600" hR="7186" stAng="-333949" swAng="-5066051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21"/>
            <p:cNvSpPr/>
            <p:nvPr/>
          </p:nvSpPr>
          <p:spPr>
            <a:xfrm rot="9232800">
              <a:off x="6277320" y="6275520"/>
              <a:ext cx="466200" cy="636120"/>
            </a:xfrm>
            <a:custGeom>
              <a:avLst/>
              <a:gdLst>
                <a:gd name="textAreaLeft" fmla="*/ 62280 w 466200"/>
                <a:gd name="textAreaRight" fmla="*/ 403920 w 466200"/>
                <a:gd name="textAreaTop" fmla="*/ 105840 h 636120"/>
                <a:gd name="textAreaBottom" fmla="*/ 436320 h 63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86" stAng="-5400000" swAng="5400000"/>
                  <a:lnTo>
                    <a:pt x="21600" y="11226"/>
                  </a:lnTo>
                  <a:arcTo wR="21600" hR="7186" stAng="0" swAng="2595372"/>
                  <a:lnTo>
                    <a:pt x="7200" y="21189"/>
                  </a:lnTo>
                  <a:lnTo>
                    <a:pt x="0" y="16391"/>
                  </a:lnTo>
                  <a:lnTo>
                    <a:pt x="7200" y="10771"/>
                  </a:lnTo>
                  <a:lnTo>
                    <a:pt x="7200" y="13960"/>
                  </a:lnTo>
                  <a:arcTo wR="21600" hR="7186" stAng="2595372" swAng="-2261424"/>
                  <a:lnTo>
                    <a:pt x="20729" y="9206"/>
                  </a:lnTo>
                  <a:arcTo wR="21600" hR="7186" stAng="-333949" swAng="-5066051"/>
                  <a:close/>
                </a:path>
                <a:path fill="darkenLess" w="21600" h="21600">
                  <a:moveTo>
                    <a:pt x="0" y="0"/>
                  </a:moveTo>
                  <a:arcTo wR="21600" hR="7186" stAng="-5400000" swAng="5400000"/>
                  <a:lnTo>
                    <a:pt x="21600" y="11226"/>
                  </a:lnTo>
                  <a:arcTo wR="21600" hR="7186" stAng="0" swAng="-333949"/>
                  <a:lnTo>
                    <a:pt x="20729" y="9206"/>
                  </a:lnTo>
                  <a:arcTo wR="21600" hR="7186" stAng="-333949" swAng="-5066051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2"/>
            <p:cNvSpPr/>
            <p:nvPr/>
          </p:nvSpPr>
          <p:spPr>
            <a:xfrm>
              <a:off x="4764240" y="1143000"/>
              <a:ext cx="2444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ahoma"/>
                </a:rPr>
                <a:t>Learning Resul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23"/>
            <p:cNvSpPr/>
            <p:nvPr/>
          </p:nvSpPr>
          <p:spPr>
            <a:xfrm flipV="1" rot="21492600">
              <a:off x="4064040" y="1141920"/>
              <a:ext cx="698400" cy="1085400"/>
            </a:xfrm>
            <a:custGeom>
              <a:avLst/>
              <a:gdLst>
                <a:gd name="textAreaLeft" fmla="*/ 93600 w 698400"/>
                <a:gd name="textAreaRight" fmla="*/ 604800 w 698400"/>
                <a:gd name="textAreaTop" fmla="*/ 202320 h 1085400"/>
                <a:gd name="textAreaBottom" fmla="*/ 725400 h 108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051" stAng="-5400000" swAng="-5400000"/>
                  <a:lnTo>
                    <a:pt x="0" y="10409"/>
                  </a:lnTo>
                  <a:arcTo wR="21600" hR="8051" stAng="10800000" swAng="-2790649"/>
                  <a:lnTo>
                    <a:pt x="14400" y="21140"/>
                  </a:lnTo>
                  <a:lnTo>
                    <a:pt x="21600" y="17280"/>
                  </a:lnTo>
                  <a:lnTo>
                    <a:pt x="14400" y="12500"/>
                  </a:lnTo>
                  <a:lnTo>
                    <a:pt x="14400" y="15641"/>
                  </a:lnTo>
                  <a:arcTo wR="21600" hR="8051" stAng="8009351" swAng="2601152"/>
                  <a:lnTo>
                    <a:pt x="233" y="9230"/>
                  </a:lnTo>
                  <a:arcTo wR="21600" hR="8051" stAng="-10610503" swAng="5210503"/>
                  <a:close/>
                </a:path>
                <a:path fill="darkenLess" w="21600" h="21600">
                  <a:moveTo>
                    <a:pt x="21600" y="0"/>
                  </a:moveTo>
                  <a:arcTo wR="21600" hR="8051" stAng="-5400000" swAng="-5400000"/>
                  <a:lnTo>
                    <a:pt x="0" y="8051"/>
                  </a:lnTo>
                  <a:arcTo wR="21600" hR="8051" stAng="10800000" swAng="-189497"/>
                  <a:lnTo>
                    <a:pt x="233" y="9230"/>
                  </a:lnTo>
                  <a:arcTo wR="21600" hR="8051" stAng="-10610503" swAng="5210503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24"/>
          <p:cNvSpPr/>
          <p:nvPr/>
        </p:nvSpPr>
        <p:spPr>
          <a:xfrm>
            <a:off x="7620120" y="65833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A. Koufman,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5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6"/>
          <p:cNvSpPr/>
          <p:nvPr/>
        </p:nvSpPr>
        <p:spPr>
          <a:xfrm>
            <a:off x="457200" y="1219320"/>
            <a:ext cx="3200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2362320" y="84240"/>
            <a:ext cx="74674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aching &amp; Lea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chnology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le Guide Self-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P21 graphic"/>
          <p:cNvPicPr/>
          <p:nvPr/>
        </p:nvPicPr>
        <p:blipFill>
          <a:blip r:embed="rId2"/>
          <a:stretch/>
        </p:blipFill>
        <p:spPr>
          <a:xfrm>
            <a:off x="1295280" y="1376280"/>
            <a:ext cx="655344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x 1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cation &amp; Collab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 Creation &amp; Publis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1st Century Learning Enviro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essional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10666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1st C Learn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352680" y="6415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ahoma"/>
              </a:rPr>
              <a:t>FableVision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udent Learning Initi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of Academic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Student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ead 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21st_century_kid"/>
          <p:cNvPicPr/>
          <p:nvPr/>
        </p:nvPicPr>
        <p:blipFill>
          <a:blip r:embed="rId2"/>
          <a:stretch/>
        </p:blipFill>
        <p:spPr>
          <a:xfrm>
            <a:off x="685800" y="1523880"/>
            <a:ext cx="3433680" cy="472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fessional Learning Pract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Collab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-In-Practice (T-I-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k of the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Assessment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Plan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21stCkid_P21"/>
          <p:cNvPicPr/>
          <p:nvPr/>
        </p:nvPicPr>
        <p:blipFill>
          <a:blip r:embed="rId2"/>
          <a:stretch/>
        </p:blipFill>
        <p:spPr>
          <a:xfrm>
            <a:off x="6477120" y="4114800"/>
            <a:ext cx="2374920" cy="2438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sk Force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Electronic Collab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ntent Placeholder 6"/>
          <p:cNvSpPr/>
          <p:nvPr/>
        </p:nvSpPr>
        <p:spPr>
          <a:xfrm>
            <a:off x="609480" y="1600200"/>
            <a:ext cx="44211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-5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-3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-5-6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rly Childh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m Data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-5 Reading &amp; Wri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m World Language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ial Studies Advis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8"/>
          <p:cNvSpPr/>
          <p:nvPr/>
        </p:nvSpPr>
        <p:spPr>
          <a:xfrm>
            <a:off x="4950000" y="160020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fessional Development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-I-P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acher Evaluation Desig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ism Council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versal Design for Learning Adviso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TIPnav"/>
          <p:cNvPicPr/>
          <p:nvPr/>
        </p:nvPicPr>
        <p:blipFill>
          <a:blip r:embed="rId1"/>
          <a:stretch/>
        </p:blipFill>
        <p:spPr>
          <a:xfrm>
            <a:off x="0" y="1295280"/>
            <a:ext cx="3279600" cy="6134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1066680" y="304920"/>
            <a:ext cx="7925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Screen shot 2011-01-28 at 10"/>
          <p:cNvPicPr/>
          <p:nvPr/>
        </p:nvPicPr>
        <p:blipFill>
          <a:blip r:embed="rId2"/>
          <a:stretch/>
        </p:blipFill>
        <p:spPr>
          <a:xfrm>
            <a:off x="4495680" y="2286000"/>
            <a:ext cx="321480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mast_09"/>
          <p:cNvPicPr/>
          <p:nvPr/>
        </p:nvPicPr>
        <p:blipFill>
          <a:blip r:embed="rId3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2438280" y="2286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chnology-In-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TeachingProfiles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02:14:51Z</dcterms:created>
  <dc:creator>Watertown Public Schools Watertown, MA 02472</dc:creator>
  <dc:description/>
  <dc:language>en-US</dc:language>
  <cp:lastModifiedBy>Melissa Henriquez</cp:lastModifiedBy>
  <cp:lastPrinted>2011-02-13T19:09:25Z</cp:lastPrinted>
  <dcterms:modified xsi:type="dcterms:W3CDTF">2011-04-18T11:44:28Z</dcterms:modified>
  <cp:revision>54</cp:revision>
  <dc:subject/>
  <dc:title>Watertown Public Schools Professional Learning …Forward</dc:title>
</cp:coreProperties>
</file>